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C36E-EBA6-4ED2-A298-2D71F5A692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3F7-3243-47C2-993D-40AF3AFB87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518A-8B45-4B98-BFBF-DF78079E66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79DE-A8C2-42D5-9700-D2D376805C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2EAA-581F-444E-B921-F9BB2A047D9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9FBB-AB5B-4793-90D0-16D3706933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BFA3-0B9D-44D2-B620-0E93A10B30B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CF2A-365F-4B4E-87E8-5F0C1A2153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B5BF-1F77-48FD-804A-EDD8AF1956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E279-ABCD-49E0-AEE6-F09C7103E5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CE37-6E2A-419D-8F86-7A7A6F70753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1622-7741-438E-B1D3-B6F5AB8D140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C2C-5763-4D25-A7CB-18CE84BECC7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5B3-C7F4-4E6E-BE68-B7FFFAF95E1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1CD-D80D-4340-BDC3-6C8D213E86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E79D-0A63-48C3-B0A5-DEF74019FE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A782-926E-4FCE-A733-14AC7086BC4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10B8-2BED-47BD-BB49-5640923BB82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2DD-A504-482B-B93B-4E3AD2B7DD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FC2-48A2-4447-8AC8-4E8505671B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862-B31E-455B-8557-FADEF90A20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9BD-1E41-4BA6-B655-091358B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827-30E7-4FF4-82E1-B1DA2917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539-C67C-40CF-A527-F1AB4980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290-2AFD-4CBD-B44B-726007D6F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960-829D-4688-A021-789E6E1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936-6776-40B3-B676-F266FE1C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44DC-E4F6-4737-8FCA-AD2A625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69D-476B-4462-A009-F8A5E135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A8D-99EC-4BE9-B4F7-0158EB4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54A-6EC5-4FCD-A1E8-0BF495C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842-0321-479F-9DAA-5A8BD88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BC5-114D-4292-88E8-65E81B78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FA20-6A59-470B-B502-7E757D9B16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uscon.rae.es/draeI/SrvltConsulta?TIPO_BUS=3&amp;LEMA=rE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549000"/>
            <a:ext cx="763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La Formación de la Opinión Públ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munication"/>
          <p:cNvPicPr/>
          <p:nvPr/>
        </p:nvPicPr>
        <p:blipFill>
          <a:blip r:embed="rId1"/>
          <a:stretch/>
        </p:blipFill>
        <p:spPr>
          <a:xfrm>
            <a:off x="3924360" y="3068640"/>
            <a:ext cx="3809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142920" y="2798640"/>
            <a:ext cx="885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ominante desde 70´s en la investigación de la comunic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Trata de la capacidad de los medios para ordenar el mundo mentalmente y organizarlo por cada individuo, es decir, no trata de decirle a los individuos qué pensar, sino sobre qué pensar. Agenda- setting es un proceso colectivo en el que los medios, el gobierno y la influencia del público, determinan los aspectos que son considerados como impor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3 Rectángulo"/>
          <p:cNvSpPr/>
          <p:nvPr/>
        </p:nvSpPr>
        <p:spPr>
          <a:xfrm>
            <a:off x="750960" y="939960"/>
            <a:ext cx="30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e agenda-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4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285840" y="1999080"/>
            <a:ext cx="8858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La Agenda- setting no influye de la misma manera para todos lo individu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McCombs y Weaver (1997) sugieren que los individuos difieren en sus necesidade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orientación y que ésta está determinada por dos aspec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1. La importancia de la información para el individu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2. El grado de incertidumbre sobre el tema del mens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esta manera </a:t>
            </a: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a mayor importancia de la información y a mayor gra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incertidumbre respecto a un tema, mayor será la necesidad de información y mayor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influencia de la agenda.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(Severin y Tankard; 200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3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Rectángulo"/>
          <p:cNvSpPr/>
          <p:nvPr/>
        </p:nvSpPr>
        <p:spPr>
          <a:xfrm>
            <a:off x="428760" y="785880"/>
            <a:ext cx="303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teoría de agenda-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62626"/>
                </a:solidFill>
                <a:latin typeface="Verdana"/>
              </a:rPr>
              <a:t>“</a:t>
            </a:r>
            <a:r>
              <a:rPr b="1" lang="es-ES_tradnl" sz="4400" spc="-1" strike="noStrike">
                <a:solidFill>
                  <a:srgbClr val="262626"/>
                </a:solidFill>
                <a:latin typeface="Verdana"/>
              </a:rPr>
              <a:t>Quien tiene la información tiene el poder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3 CuadroTexto"/>
          <p:cNvSpPr/>
          <p:nvPr/>
        </p:nvSpPr>
        <p:spPr>
          <a:xfrm>
            <a:off x="510480" y="2428920"/>
            <a:ext cx="822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c00000"/>
                </a:solidFill>
                <a:latin typeface="Arial"/>
              </a:rPr>
              <a:t>¿Qué es informació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ción según la R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CuadroTexto"/>
          <p:cNvSpPr/>
          <p:nvPr/>
        </p:nvSpPr>
        <p:spPr>
          <a:xfrm>
            <a:off x="571680" y="23572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 Comunicación o adquisición de conocimientos que permiten ampliar o precisar los que se poseen sobre una materia determin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 Conocimientos así comunicados o adquir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CuadroTexto"/>
          <p:cNvSpPr/>
          <p:nvPr/>
        </p:nvSpPr>
        <p:spPr>
          <a:xfrm>
            <a:off x="642960" y="192888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omunicación es hoy movimiento de informac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 CuadroTexto"/>
          <p:cNvSpPr/>
          <p:nvPr/>
        </p:nvSpPr>
        <p:spPr>
          <a:xfrm>
            <a:off x="1387440" y="3571920"/>
            <a:ext cx="42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shal Mcluhan, intelectual 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3 CuadroTexto"/>
          <p:cNvSpPr/>
          <p:nvPr/>
        </p:nvSpPr>
        <p:spPr>
          <a:xfrm>
            <a:off x="1000080" y="142884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Una diferencia fundamental entre comunicación e información está en que la primera alcanza todos los niveles del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4 CuadroTexto"/>
          <p:cNvSpPr/>
          <p:nvPr/>
        </p:nvSpPr>
        <p:spPr>
          <a:xfrm>
            <a:off x="1143000" y="3143160"/>
            <a:ext cx="55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ísico, emocional, intelectual. La segunda se dirige, en cambio, al nivel intelectual y/o al sistema de los reflejos condicionales. Obviamente la comunicación es bilater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5 CuadroTexto"/>
          <p:cNvSpPr/>
          <p:nvPr/>
        </p:nvSpPr>
        <p:spPr>
          <a:xfrm>
            <a:off x="1759320" y="557208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Joao Costa, intelectual 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3 CuadroTexto"/>
          <p:cNvSpPr/>
          <p:nvPr/>
        </p:nvSpPr>
        <p:spPr>
          <a:xfrm>
            <a:off x="714240" y="1285920"/>
            <a:ext cx="59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debe confundirse información con comunicación. Que la primera hace referencia al proceso y la segunda la situación socia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 CuadroTexto"/>
          <p:cNvSpPr/>
          <p:nvPr/>
        </p:nvSpPr>
        <p:spPr>
          <a:xfrm>
            <a:off x="85716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Ángel Benito, maestro español de 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4 Conector recto de flecha"/>
          <p:cNvCxnSpPr/>
          <p:nvPr/>
        </p:nvCxnSpPr>
        <p:spPr>
          <a:xfrm flipH="1">
            <a:off x="2856960" y="2857320"/>
            <a:ext cx="572040" cy="11437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6 Conector recto de flecha"/>
          <p:cNvCxnSpPr/>
          <p:nvPr/>
        </p:nvCxnSpPr>
        <p:spPr>
          <a:xfrm>
            <a:off x="4856760" y="2857680"/>
            <a:ext cx="500760" cy="1072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08" name="7 CuadroTexto"/>
          <p:cNvSpPr/>
          <p:nvPr/>
        </p:nvSpPr>
        <p:spPr>
          <a:xfrm>
            <a:off x="357120" y="3571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 sustantivo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58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4 Conector recto de flecha"/>
          <p:cNvCxnSpPr/>
          <p:nvPr/>
        </p:nvCxnSpPr>
        <p:spPr>
          <a:xfrm flipH="1">
            <a:off x="2142720" y="2714760"/>
            <a:ext cx="1215360" cy="1643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1" name="6 Conector recto de flecha"/>
          <p:cNvCxnSpPr/>
          <p:nvPr/>
        </p:nvCxnSpPr>
        <p:spPr>
          <a:xfrm>
            <a:off x="5000760" y="2571840"/>
            <a:ext cx="6433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2" name="7 CuadroTexto"/>
          <p:cNvSpPr/>
          <p:nvPr/>
        </p:nvSpPr>
        <p:spPr>
          <a:xfrm>
            <a:off x="357120" y="1429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s sustantivos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Rectángulo"/>
          <p:cNvSpPr/>
          <p:nvPr/>
        </p:nvSpPr>
        <p:spPr>
          <a:xfrm>
            <a:off x="500040" y="4286160"/>
            <a:ext cx="3000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ente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Material que sirve de información a un investigador o de inspiración a un autor. (Ra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9 Rectángulo"/>
          <p:cNvSpPr/>
          <p:nvPr/>
        </p:nvSpPr>
        <p:spPr>
          <a:xfrm>
            <a:off x="5072040" y="381168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tamieto de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 Inform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licación sistemática de uno o varios programas sobre un conjunto de datos para utilizar la información que conti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214280" y="2643120"/>
            <a:ext cx="266724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4357800" y="958680"/>
            <a:ext cx="3917880" cy="53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Uno. 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la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fuerza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 la sociedad ti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sobre el individuo como ser social, que pertenece a una comunidad mayor que él mismo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que a la vez lo moldea como un ser que es el reflejo de la propia sociedad. (Intervienen :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familia, la escuela, los grupos sociales y los prejuicios,( Norm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Preestablecidas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 Principalmente los medios masivos de comunicación, que ordenan y organizan el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mentalmente para cada individuo a quien  sobre qué pensar. (Teoría de la agenda-set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3 Rectángulo"/>
          <p:cNvSpPr/>
          <p:nvPr/>
        </p:nvSpPr>
        <p:spPr>
          <a:xfrm>
            <a:off x="285840" y="714240"/>
            <a:ext cx="32144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bri"/>
                <a:ea typeface="Calibri"/>
              </a:rPr>
              <a:t>Aspectos  fundamentales en la formación de la opinión pública </a:t>
            </a:r>
            <a:r>
              <a:rPr b="1" lang="es-ES" sz="1400" spc="-1" strike="noStrike">
                <a:solidFill>
                  <a:srgbClr val="404040"/>
                </a:solidFill>
                <a:latin typeface="Calibri"/>
                <a:ea typeface="Calibri"/>
              </a:rPr>
              <a:t>(Según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ribel García Méndez) </a:t>
            </a:r>
            <a:r>
              <a:rPr b="1" lang="es-ES" sz="1400" spc="-1" strike="noStrike">
                <a:solidFill>
                  <a:srgbClr val="404040"/>
                </a:solidFill>
                <a:latin typeface="Calibri"/>
                <a:ea typeface="Calibri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584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4 Conector recto de flecha"/>
          <p:cNvCxnSpPr/>
          <p:nvPr/>
        </p:nvCxnSpPr>
        <p:spPr>
          <a:xfrm flipH="1">
            <a:off x="2142720" y="2714760"/>
            <a:ext cx="1215360" cy="1643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17" name="6 Conector recto de flecha"/>
          <p:cNvCxnSpPr/>
          <p:nvPr/>
        </p:nvCxnSpPr>
        <p:spPr>
          <a:xfrm>
            <a:off x="5000760" y="2571840"/>
            <a:ext cx="6433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18" name="7 CuadroTexto"/>
          <p:cNvSpPr/>
          <p:nvPr/>
        </p:nvSpPr>
        <p:spPr>
          <a:xfrm>
            <a:off x="357120" y="14292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c00000"/>
                </a:solidFill>
                <a:latin typeface="Arial"/>
              </a:rPr>
              <a:t>¿Qué otro verbo y qué otros sustantivos se desprenden de Inform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 Rectángulo"/>
          <p:cNvSpPr/>
          <p:nvPr/>
        </p:nvSpPr>
        <p:spPr>
          <a:xfrm>
            <a:off x="500040" y="4286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uente 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9 Rectángulo"/>
          <p:cNvSpPr/>
          <p:nvPr/>
        </p:nvSpPr>
        <p:spPr>
          <a:xfrm>
            <a:off x="5072040" y="381168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Tratamie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10 Conector recto de flecha"/>
          <p:cNvCxnSpPr/>
          <p:nvPr/>
        </p:nvCxnSpPr>
        <p:spPr>
          <a:xfrm>
            <a:off x="4285080" y="3071880"/>
            <a:ext cx="72360" cy="23580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22" name="11 CuadroTexto"/>
          <p:cNvSpPr/>
          <p:nvPr/>
        </p:nvSpPr>
        <p:spPr>
          <a:xfrm>
            <a:off x="2428920" y="5500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o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chos, representaciones, que NO han sido procesados o manipu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ar información implica el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almacenamient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, la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organizac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1" lang="es-ES" sz="2400" spc="-1" strike="noStrike">
                <a:solidFill>
                  <a:srgbClr val="c00000"/>
                </a:solidFill>
                <a:latin typeface="Verdana"/>
              </a:rPr>
              <a:t>transmisión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de la misma.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Proceso Comunicación Baumhauer"/>
          <p:cNvPicPr/>
          <p:nvPr/>
        </p:nvPicPr>
        <p:blipFill>
          <a:blip r:embed="rId1"/>
          <a:stretch/>
        </p:blipFill>
        <p:spPr>
          <a:xfrm>
            <a:off x="1547640" y="880920"/>
            <a:ext cx="619308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odific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ibe informa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uce signos y señales de un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proceso ocurre en el cereb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4572000" y="1413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4572000" y="2276640"/>
            <a:ext cx="0" cy="50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4572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El Proceso de la comunicación ocurre en el cerebro"/>
          <p:cNvPicPr/>
          <p:nvPr/>
        </p:nvPicPr>
        <p:blipFill>
          <a:blip r:embed="rId1"/>
          <a:stretch/>
        </p:blipFill>
        <p:spPr>
          <a:xfrm>
            <a:off x="414360" y="557280"/>
            <a:ext cx="831528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2560" y="2071800"/>
            <a:ext cx="792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427640" y="1255680"/>
            <a:ext cx="432108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decodificador NO revela automáticamente opinión pública por el hecho de haber decodificado un mensaj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Para FORMAR la </a:t>
            </a:r>
            <a:r>
              <a:rPr b="1" lang="es-CO" sz="2400" spc="-1" strike="noStrike">
                <a:solidFill>
                  <a:srgbClr val="cc3300"/>
                </a:solidFill>
                <a:latin typeface="Arial"/>
              </a:rPr>
              <a:t>OPINIÓN PÚBLICA</a:t>
            </a: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NECES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a asociación de conteni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l intercambio de da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La libre discusión entre dos personas o má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Decisiones acerca del tema de interés cole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xpresión de acuerdo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girl-listening-to-music"/>
          <p:cNvPicPr/>
          <p:nvPr/>
        </p:nvPicPr>
        <p:blipFill>
          <a:blip r:embed="rId1"/>
          <a:stretch/>
        </p:blipFill>
        <p:spPr>
          <a:xfrm>
            <a:off x="0" y="3645000"/>
            <a:ext cx="40384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roceso Comunicación Baumhauer 2"/>
          <p:cNvPicPr/>
          <p:nvPr/>
        </p:nvPicPr>
        <p:blipFill>
          <a:blip r:embed="rId1"/>
          <a:stretch/>
        </p:blipFill>
        <p:spPr>
          <a:xfrm>
            <a:off x="539640" y="847800"/>
            <a:ext cx="82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12"/>
          <p:cNvSpPr/>
          <p:nvPr/>
        </p:nvSpPr>
        <p:spPr>
          <a:xfrm>
            <a:off x="395280" y="1125360"/>
            <a:ext cx="3168720" cy="259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82560" y="2071800"/>
            <a:ext cx="7921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427640" y="1916280"/>
            <a:ext cx="432108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EN LOS RECEPTORES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700" spc="-1" strike="noStrike">
                <a:solidFill>
                  <a:srgbClr val="000000"/>
                </a:solidFill>
                <a:latin typeface="Arial"/>
              </a:rPr>
              <a:t>FORMA la </a:t>
            </a:r>
            <a:r>
              <a:rPr b="1" lang="es-CO" sz="2400" spc="-1" strike="noStrike">
                <a:solidFill>
                  <a:srgbClr val="cc3300"/>
                </a:solidFill>
                <a:latin typeface="Arial"/>
              </a:rPr>
              <a:t>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girl-listening-to-music"/>
          <p:cNvPicPr/>
          <p:nvPr/>
        </p:nvPicPr>
        <p:blipFill>
          <a:blip r:embed="rId1"/>
          <a:stretch/>
        </p:blipFill>
        <p:spPr>
          <a:xfrm>
            <a:off x="0" y="4149720"/>
            <a:ext cx="3780000" cy="26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8"/>
          <p:cNvSpPr/>
          <p:nvPr/>
        </p:nvSpPr>
        <p:spPr>
          <a:xfrm>
            <a:off x="612360" y="198900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980720" y="24922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Diálo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901800" y="285264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621800" y="14842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cc3300"/>
                </a:solidFill>
                <a:latin typeface="Arial"/>
              </a:rPr>
              <a:t>Rum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2627280" y="3573360"/>
            <a:ext cx="432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476280"/>
            <a:ext cx="619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50920" y="549360"/>
            <a:ext cx="8076960" cy="503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La Formación de la Opinión Púb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blackpool4me1"/>
          <p:cNvPicPr/>
          <p:nvPr/>
        </p:nvPicPr>
        <p:blipFill>
          <a:blip r:embed="rId1"/>
          <a:srcRect l="0" t="0" r="0" b="12155"/>
          <a:stretch/>
        </p:blipFill>
        <p:spPr>
          <a:xfrm>
            <a:off x="2484360" y="2897280"/>
            <a:ext cx="2847960" cy="3960720"/>
          </a:xfrm>
          <a:prstGeom prst="rect">
            <a:avLst/>
          </a:prstGeom>
          <a:ln w="0">
            <a:noFill/>
          </a:ln>
        </p:spPr>
      </p:pic>
      <p:sp>
        <p:nvSpPr>
          <p:cNvPr id="156" name="WordArt 15"/>
          <p:cNvSpPr txBox="1"/>
          <p:nvPr/>
        </p:nvSpPr>
        <p:spPr>
          <a:xfrm>
            <a:off x="826920" y="1628640"/>
            <a:ext cx="7490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¿Cómo se forma la Opinión Pública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Formación de la Opinión Pública"/>
          <p:cNvPicPr/>
          <p:nvPr/>
        </p:nvPicPr>
        <p:blipFill>
          <a:blip r:embed="rId1"/>
          <a:stretch/>
        </p:blipFill>
        <p:spPr>
          <a:xfrm>
            <a:off x="957240" y="533520"/>
            <a:ext cx="72295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571680" y="1005120"/>
            <a:ext cx="36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Calibri"/>
              </a:rPr>
              <a:t>(Oskamp: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 Rectángulo"/>
          <p:cNvSpPr/>
          <p:nvPr/>
        </p:nvSpPr>
        <p:spPr>
          <a:xfrm>
            <a:off x="285840" y="328608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Trato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Familia durante la inf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istema educ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Grupos de 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Medios masivos de c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0" t="0" r="1370" b="2693"/>
          <a:stretch/>
        </p:blipFill>
        <p:spPr>
          <a:xfrm>
            <a:off x="4429080" y="2500200"/>
            <a:ext cx="42134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"/>
          <p:cNvSpPr/>
          <p:nvPr/>
        </p:nvSpPr>
        <p:spPr>
          <a:xfrm>
            <a:off x="714240" y="150228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  <a:ea typeface="Calibri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4 Rectángulo"/>
          <p:cNvSpPr/>
          <p:nvPr/>
        </p:nvSpPr>
        <p:spPr>
          <a:xfrm>
            <a:off x="1071720" y="2714760"/>
            <a:ext cx="67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kamp, S. (1991) Attitudes and opinions. USA: Pretince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5 Rectángulo"/>
          <p:cNvSpPr/>
          <p:nvPr/>
        </p:nvSpPr>
        <p:spPr>
          <a:xfrm>
            <a:off x="1071720" y="38577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Combs, y David Weaver (1997) Commnication and Democracy: Exploring the intelectual frontiers in agenda- setting the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6 Rectángulo"/>
          <p:cNvSpPr/>
          <p:nvPr/>
        </p:nvSpPr>
        <p:spPr>
          <a:xfrm>
            <a:off x="1071720" y="328608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llino, L., (1995) Diccionario de Sociología. México: Siglo XXI Edi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9 Rectángulo"/>
          <p:cNvSpPr/>
          <p:nvPr/>
        </p:nvSpPr>
        <p:spPr>
          <a:xfrm>
            <a:off x="1071720" y="464328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in, J. Werner y James Tankard (1979) Communication Theories: origins, methods, uses. USA: Hastings House Publis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500040" y="1875960"/>
            <a:ext cx="7500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Puntos Cla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de los padres sobre las actitudes y conductas de los niñ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s tan fuerte que algunos autores la han catalogado como una institu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En un principio, los padres poseen un control casi total sobre la información con la que el niño entra en cont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tifican o castigan la forma e que el niño actú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n poder para formar la actitud d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Gran cantidad de actitudes serán formadas por experiencia propia en el mundo, pero esta se derivará de la enseñanza pa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Rectángulo"/>
          <p:cNvSpPr/>
          <p:nvPr/>
        </p:nvSpPr>
        <p:spPr>
          <a:xfrm>
            <a:off x="500040" y="78588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de los padres sobre las actitudes y conductas de los 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85840" y="2869200"/>
            <a:ext cx="900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Sistema educativ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Grupos socia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Presiones de Conform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Grupos de refer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3 Rectángulo"/>
          <p:cNvSpPr/>
          <p:nvPr/>
        </p:nvSpPr>
        <p:spPr>
          <a:xfrm>
            <a:off x="377280" y="1214280"/>
            <a:ext cx="40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  <a:ea typeface="Calibri"/>
              </a:rPr>
              <a:t>Grupos de Pres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072040" y="1428840"/>
            <a:ext cx="3452760" cy="2589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85840" y="114444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Sistema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Rectángulo"/>
          <p:cNvSpPr/>
          <p:nvPr/>
        </p:nvSpPr>
        <p:spPr>
          <a:xfrm>
            <a:off x="4572000" y="1928880"/>
            <a:ext cx="4572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La enseñanza en las escuelas y el adoctrina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Este proceso se hace más evidente en las actitudes polí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ración de ac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57120" y="2143080"/>
            <a:ext cx="3786120" cy="2903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5143680" y="93024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285840" y="164448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  <a:ea typeface="Calibri"/>
              </a:rPr>
              <a:t>Presiones de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 Rectángulo"/>
          <p:cNvSpPr/>
          <p:nvPr/>
        </p:nvSpPr>
        <p:spPr>
          <a:xfrm>
            <a:off x="2571840" y="2786040"/>
            <a:ext cx="592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Mu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prejuicios raciales de los individuos son el simple reflejo de lo que se asume existe en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cultura, así como de las nor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207144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285840" y="164412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Calibri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Rectángulo"/>
          <p:cNvSpPr/>
          <p:nvPr/>
        </p:nvSpPr>
        <p:spPr>
          <a:xfrm>
            <a:off x="428760" y="2714760"/>
            <a:ext cx="535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on inten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Son conjuntos de valores morales y creencias que se comparan con los de otras personas. (estrellas de cine, celebridades, artista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nfluyen en las actitudes de las personas, aunque no parezca evid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  <a:ea typeface="Calibri"/>
              </a:rPr>
              <a:t>Ejemplo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: Prácticas sociales y religiosas. (Oskamp: 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286240" y="64476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  <a:ea typeface="Calibri"/>
              </a:rPr>
              <a:t>Influencia social en la formación de la opinión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  <a:ea typeface="Calibri"/>
              </a:rPr>
              <a:t> (Oskamp: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5929200" y="3429000"/>
            <a:ext cx="29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1280" y="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La Formación de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85840" y="2586600"/>
            <a:ext cx="885816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Luciano Gallino (1995) menciona que la comunicación masiva ha tenido fu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impactos en la vida de los homb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manipulación de los símb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reducción de distancias físicas, temporales y soci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La influencia en la modificación del lenguaje escrito y hab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  <a:ea typeface="Calibri"/>
              </a:rPr>
              <a:t>Son factores determinantes del status social (pueden cambiar una actitud hacia un objeto, persona o instit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3 Rectángulo"/>
          <p:cNvSpPr/>
          <p:nvPr/>
        </p:nvSpPr>
        <p:spPr>
          <a:xfrm>
            <a:off x="4071960" y="6429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  <a:ea typeface="Calibri"/>
              </a:rPr>
              <a:t>Dos.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Influencia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 que sobre la opinión ejercen los medios m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Calibri"/>
              </a:rPr>
              <a:t>de comun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428760" y="928800"/>
            <a:ext cx="219528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10:11:36Z</dcterms:created>
  <dc:creator>Admin</dc:creator>
  <dc:description/>
  <dc:language>en-US</dc:language>
  <cp:lastModifiedBy>Esp. Cine</cp:lastModifiedBy>
  <dcterms:modified xsi:type="dcterms:W3CDTF">2009-09-15T22:09:06Z</dcterms:modified>
  <cp:revision>117</cp:revision>
  <dc:subject/>
  <dc:title>Diapositiva 1</dc:title>
</cp:coreProperties>
</file>